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46.png" ContentType="image/png"/>
  <Override PartName="/ppt/media/image31.wmf" ContentType="image/x-wmf"/>
  <Override PartName="/ppt/media/image32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43.png" ContentType="image/png"/>
  <Override PartName="/ppt/media/image54.wmf" ContentType="image/x-wmf"/>
  <Override PartName="/ppt/media/image44.png" ContentType="image/png"/>
  <Override PartName="/ppt/media/image55.wmf" ContentType="image/x-wmf"/>
  <Override PartName="/ppt/media/image45.png" ContentType="image/png"/>
  <Override PartName="/ppt/media/image30.wmf" ContentType="image/x-wmf"/>
  <Override PartName="/ppt/media/image56.wmf" ContentType="image/x-wmf"/>
  <Override PartName="/ppt/media/image39.png" ContentType="image/png"/>
  <Override PartName="/ppt/media/image38.png" ContentType="image/png"/>
  <Override PartName="/ppt/media/image34.wmf" ContentType="image/x-wmf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8E92-D4C1-4E1B-A734-7E8A2D0B7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06D6-1060-4FF3-A993-A88DF8104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BBF3-1DCB-41FE-89BD-3DC497FBD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2CAD-2820-441B-A7F0-F0B4DCEC1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E069-002B-417B-9AA3-628B2F58E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0870-BC13-4D7A-82E3-4973566E5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F480-95F0-4B3D-A2C2-C2F0B3079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35A2-2B6E-4742-834C-6CF7E82F7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1924-39BB-4CD2-B979-2438E4F10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8967-6E15-4E18-AA56-610A4026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AB32-B30F-4DE8-A061-E26AE64D3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EA49-9CA9-49BB-9001-ECE4F05B2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C29C-79E5-4756-882D-2641374FC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75CC-84E4-491F-A3F5-8A8F7E7C8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BE68-AF34-4982-BFF7-366BD8676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AD94-123C-4D82-8627-3270B6EC5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04D8-9876-43EA-A84B-E8C8CC7DC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6FEA-12B5-40E4-8566-28ABBE9A1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ED48-C82E-4DD7-8AEE-89CF6E264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3B8E-42F7-4F6E-B045-7691F8855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1C34-3370-4FEA-9C8C-9E5CF8FC6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49E9-300C-460E-8821-F6430FDBA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91DE-B744-498C-A1EF-6CE479F1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37A9-5F58-40C1-8C9A-6F5E93F5C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1128-45CF-472A-BD02-DA2B7F095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6143-A2C6-4279-8D9A-09AF2A62A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29F8-24EB-4089-9609-6407D332C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05D1-DC44-45A4-AD38-048AEB6A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36BA-DED8-4842-8BD3-050E71F65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5ADA-7B35-4AC9-A04A-98C9535AB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75D0-144A-44A1-BCBB-E4B9E70E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F576-C10F-42AF-8B07-A79AC4188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D8E5-3C26-4355-8651-99EB4C43E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EBB3-F73B-4D8F-9B5C-C4DBE9F22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B3F0-6797-44F3-8968-C786354B9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2C10-EA8E-4D77-BED1-C0F5C6CCC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13A5-EB63-4A33-BF79-E52100C87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6C21-F603-4CAC-BB59-2B45D3BAA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8D55-A0CE-4F59-A0D7-A66432675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8833-2BA9-49F5-B22C-07CE63E2C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062F-9A92-4037-8157-6DA8A5997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1B14-BA9F-474A-997F-F5AB95E6A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0CB9-BB16-4250-AE3D-68DCCFDA2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BF6D-901E-4A5A-9A92-7E3B7297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E058-B3AA-4DE5-B006-60645FC36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A669-6B23-4F31-8F9D-E070D8215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CD17-F0ED-4A67-A2C8-7C09C8C90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 - </a:t>
            </a:r>
            <a:fld id="{DBBF067A-EBEF-4014-8D8A-06C399ED7FD9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 - </a:t>
            </a:r>
            <a:fld id="{424D7B06-5E56-4564-90A6-B6B7972DA960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3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3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68580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Active Learning Lecture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62120" y="6400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2009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57200" y="182880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hapter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More on 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Picture 8"/>
          <p:cNvPicPr/>
          <p:nvPr/>
        </p:nvPicPr>
        <p:blipFill>
          <a:blip r:embed="rId1"/>
          <a:stretch/>
        </p:blipFill>
        <p:spPr>
          <a:xfrm>
            <a:off x="4557600" y="1227240"/>
            <a:ext cx="4434120" cy="5554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85800" y="2330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685800" y="4495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8580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85800" y="5638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066680" y="990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0"/>
          <p:cNvGraphicFramePr/>
          <p:nvPr/>
        </p:nvGraphicFramePr>
        <p:xfrm>
          <a:off x="1219320" y="3505320"/>
          <a:ext cx="54612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505320"/>
                    <a:ext cx="546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Oval 11"/>
          <p:cNvSpPr/>
          <p:nvPr/>
        </p:nvSpPr>
        <p:spPr>
          <a:xfrm>
            <a:off x="635040" y="354348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9"/>
          <p:cNvGraphicFramePr/>
          <p:nvPr/>
        </p:nvGraphicFramePr>
        <p:xfrm>
          <a:off x="3579840" y="291960"/>
          <a:ext cx="5234040" cy="200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9840" y="291960"/>
                    <a:ext cx="523404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523880" y="2728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, find (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523880" y="2728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, find (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1447920" y="57592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523880" y="2728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9"/>
          <p:cNvGraphicFramePr/>
          <p:nvPr/>
        </p:nvGraphicFramePr>
        <p:xfrm>
          <a:off x="1600200" y="990720"/>
          <a:ext cx="243828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990720"/>
                    <a:ext cx="2438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0"/>
          <p:cNvSpPr/>
          <p:nvPr/>
        </p:nvSpPr>
        <p:spPr>
          <a:xfrm>
            <a:off x="3965760" y="952560"/>
            <a:ext cx="462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the domain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/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11"/>
          <p:cNvGraphicFramePr/>
          <p:nvPr/>
        </p:nvGraphicFramePr>
        <p:xfrm>
          <a:off x="2209680" y="2108160"/>
          <a:ext cx="1181160" cy="55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2108160"/>
                    <a:ext cx="11811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2"/>
          <p:cNvGraphicFramePr/>
          <p:nvPr/>
        </p:nvGraphicFramePr>
        <p:xfrm>
          <a:off x="2235240" y="3276720"/>
          <a:ext cx="1155600" cy="55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1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35240" y="3276720"/>
                    <a:ext cx="1155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13"/>
          <p:cNvGraphicFramePr/>
          <p:nvPr/>
        </p:nvGraphicFramePr>
        <p:xfrm>
          <a:off x="2184480" y="4546440"/>
          <a:ext cx="4305240" cy="55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3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84480" y="4546440"/>
                    <a:ext cx="43052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15"/>
          <p:cNvGraphicFramePr/>
          <p:nvPr/>
        </p:nvGraphicFramePr>
        <p:xfrm>
          <a:off x="2228760" y="5715000"/>
          <a:ext cx="4165560" cy="55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5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28760" y="5715000"/>
                    <a:ext cx="41655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523880" y="2728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8"/>
          <p:cNvGraphicFramePr/>
          <p:nvPr/>
        </p:nvGraphicFramePr>
        <p:xfrm>
          <a:off x="1600200" y="990720"/>
          <a:ext cx="243828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990720"/>
                    <a:ext cx="2438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9"/>
          <p:cNvSpPr/>
          <p:nvPr/>
        </p:nvSpPr>
        <p:spPr>
          <a:xfrm>
            <a:off x="3965760" y="952560"/>
            <a:ext cx="462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the domain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/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1447920" y="57592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5"/>
              <p:cNvSpPr txBox="1"/>
              <p:nvPr/>
            </p:nvSpPr>
            <p:spPr>
              <a:xfrm>
                <a:off x="2057400" y="2209680"/>
                <a:ext cx="1057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6"/>
              <p:cNvSpPr txBox="1"/>
              <p:nvPr/>
            </p:nvSpPr>
            <p:spPr>
              <a:xfrm>
                <a:off x="2068560" y="33526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7"/>
              <p:cNvSpPr txBox="1"/>
              <p:nvPr/>
            </p:nvSpPr>
            <p:spPr>
              <a:xfrm>
                <a:off x="2057400" y="4572000"/>
                <a:ext cx="4876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8"/>
              <p:cNvSpPr txBox="1"/>
              <p:nvPr/>
            </p:nvSpPr>
            <p:spPr>
              <a:xfrm>
                <a:off x="2286000" y="5715000"/>
                <a:ext cx="4686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,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–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–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3 – 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ct and simplify the difference quotient for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–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–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–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3 – 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ct and simplify the difference quotient for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–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397160" y="331488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447920" y="1949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447920" y="3168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523880" y="196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(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12"/>
          <p:cNvGraphicFramePr/>
          <p:nvPr/>
        </p:nvGraphicFramePr>
        <p:xfrm>
          <a:off x="1625760" y="965160"/>
          <a:ext cx="26413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5760" y="965160"/>
                    <a:ext cx="264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447920" y="1949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447920" y="3168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523880" y="196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(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"/>
          <p:cNvSpPr/>
          <p:nvPr/>
        </p:nvSpPr>
        <p:spPr>
          <a:xfrm>
            <a:off x="1371600" y="44956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10"/>
          <p:cNvGraphicFramePr/>
          <p:nvPr/>
        </p:nvGraphicFramePr>
        <p:xfrm>
          <a:off x="1625760" y="965160"/>
          <a:ext cx="26413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5760" y="965160"/>
                    <a:ext cx="264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447920" y="2558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1447920" y="4724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447920" y="3625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9"/>
          <p:cNvGraphicFramePr/>
          <p:nvPr/>
        </p:nvGraphicFramePr>
        <p:xfrm>
          <a:off x="4343400" y="1143000"/>
          <a:ext cx="195588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1143000"/>
                    <a:ext cx="1955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0"/>
          <p:cNvGraphicFramePr/>
          <p:nvPr/>
        </p:nvGraphicFramePr>
        <p:xfrm>
          <a:off x="2451240" y="152280"/>
          <a:ext cx="2273040" cy="93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51240" y="152280"/>
                    <a:ext cx="2273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11"/>
          <p:cNvSpPr/>
          <p:nvPr/>
        </p:nvSpPr>
        <p:spPr>
          <a:xfrm>
            <a:off x="4952880" y="272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(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1523880" y="1111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omain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8"/>
              <p:cNvSpPr txBox="1"/>
              <p:nvPr/>
            </p:nvSpPr>
            <p:spPr>
              <a:xfrm>
                <a:off x="2362320" y="2590920"/>
                <a:ext cx="293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9"/>
              <p:cNvSpPr txBox="1"/>
              <p:nvPr/>
            </p:nvSpPr>
            <p:spPr>
              <a:xfrm>
                <a:off x="2286000" y="3581280"/>
                <a:ext cx="4876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0"/>
              <p:cNvSpPr txBox="1"/>
              <p:nvPr/>
            </p:nvSpPr>
            <p:spPr>
              <a:xfrm>
                <a:off x="2362320" y="4800600"/>
                <a:ext cx="2971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1"/>
              <p:cNvSpPr txBox="1"/>
              <p:nvPr/>
            </p:nvSpPr>
            <p:spPr>
              <a:xfrm>
                <a:off x="2286000" y="5791320"/>
                <a:ext cx="3352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 2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More on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1760" y="25905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, Decreasing, and Piecewise Functions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ebra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osition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y and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awtri_4c UPDATE_color"/>
          <p:cNvPicPr/>
          <p:nvPr/>
        </p:nvPicPr>
        <p:blipFill>
          <a:blip r:embed="rId1"/>
          <a:stretch/>
        </p:blipFill>
        <p:spPr>
          <a:xfrm>
            <a:off x="4648320" y="6026040"/>
            <a:ext cx="684000" cy="831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447920" y="2558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1447920" y="4724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447920" y="3625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9"/>
          <p:cNvGraphicFramePr/>
          <p:nvPr/>
        </p:nvGraphicFramePr>
        <p:xfrm>
          <a:off x="4343400" y="1143000"/>
          <a:ext cx="195588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1143000"/>
                    <a:ext cx="1955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0"/>
          <p:cNvGraphicFramePr/>
          <p:nvPr/>
        </p:nvGraphicFramePr>
        <p:xfrm>
          <a:off x="2451240" y="152280"/>
          <a:ext cx="2273040" cy="93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51240" y="152280"/>
                    <a:ext cx="2273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1"/>
          <p:cNvSpPr/>
          <p:nvPr/>
        </p:nvSpPr>
        <p:spPr>
          <a:xfrm>
            <a:off x="4952880" y="272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(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1523880" y="1111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omain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7"/>
          <p:cNvSpPr/>
          <p:nvPr/>
        </p:nvSpPr>
        <p:spPr>
          <a:xfrm>
            <a:off x="1397160" y="368316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8"/>
              <p:cNvSpPr txBox="1"/>
              <p:nvPr/>
            </p:nvSpPr>
            <p:spPr>
              <a:xfrm>
                <a:off x="2362320" y="2590920"/>
                <a:ext cx="293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9"/>
              <p:cNvSpPr txBox="1"/>
              <p:nvPr/>
            </p:nvSpPr>
            <p:spPr>
              <a:xfrm>
                <a:off x="2286000" y="3581280"/>
                <a:ext cx="4876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0"/>
              <p:cNvSpPr txBox="1"/>
              <p:nvPr/>
            </p:nvSpPr>
            <p:spPr>
              <a:xfrm>
                <a:off x="2362320" y="4800600"/>
                <a:ext cx="2971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2286000" y="5791320"/>
                <a:ext cx="3352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47920" y="20192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6"/>
          <p:cNvSpPr/>
          <p:nvPr/>
        </p:nvSpPr>
        <p:spPr>
          <a:xfrm>
            <a:off x="1447920" y="4457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447920" y="3238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447920" y="56768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1523880" y="2667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     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2"/>
          <p:cNvGraphicFramePr/>
          <p:nvPr/>
        </p:nvGraphicFramePr>
        <p:xfrm>
          <a:off x="6654960" y="304920"/>
          <a:ext cx="55692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4960" y="304920"/>
                    <a:ext cx="5569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13"/>
          <p:cNvGraphicFramePr/>
          <p:nvPr/>
        </p:nvGraphicFramePr>
        <p:xfrm>
          <a:off x="1981080" y="2057400"/>
          <a:ext cx="301644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057400"/>
                    <a:ext cx="30164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14"/>
          <p:cNvGraphicFramePr/>
          <p:nvPr/>
        </p:nvGraphicFramePr>
        <p:xfrm>
          <a:off x="1981080" y="3220920"/>
          <a:ext cx="3016440" cy="68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8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220920"/>
                    <a:ext cx="301644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15"/>
          <p:cNvGraphicFramePr/>
          <p:nvPr/>
        </p:nvGraphicFramePr>
        <p:xfrm>
          <a:off x="1981080" y="4551480"/>
          <a:ext cx="24415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0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551480"/>
                    <a:ext cx="2441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16"/>
          <p:cNvGraphicFramePr/>
          <p:nvPr/>
        </p:nvGraphicFramePr>
        <p:xfrm>
          <a:off x="1981080" y="5676840"/>
          <a:ext cx="2441520" cy="64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2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676840"/>
                    <a:ext cx="2441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447920" y="20192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4"/>
          <p:cNvSpPr/>
          <p:nvPr/>
        </p:nvSpPr>
        <p:spPr>
          <a:xfrm>
            <a:off x="1447920" y="4457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447920" y="3238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447920" y="56768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1523880" y="2667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     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8"/>
          <p:cNvGraphicFramePr/>
          <p:nvPr/>
        </p:nvGraphicFramePr>
        <p:xfrm>
          <a:off x="6654960" y="304920"/>
          <a:ext cx="55692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4960" y="304920"/>
                    <a:ext cx="5569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9"/>
          <p:cNvGraphicFramePr/>
          <p:nvPr/>
        </p:nvGraphicFramePr>
        <p:xfrm>
          <a:off x="1981080" y="2057400"/>
          <a:ext cx="301644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3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057400"/>
                    <a:ext cx="30164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0"/>
          <p:cNvGraphicFramePr/>
          <p:nvPr/>
        </p:nvGraphicFramePr>
        <p:xfrm>
          <a:off x="1981080" y="3220920"/>
          <a:ext cx="3016440" cy="68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5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220920"/>
                    <a:ext cx="301644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1"/>
          <p:cNvGraphicFramePr/>
          <p:nvPr/>
        </p:nvGraphicFramePr>
        <p:xfrm>
          <a:off x="1981080" y="4551480"/>
          <a:ext cx="24415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7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551480"/>
                    <a:ext cx="2441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2"/>
          <p:cNvGraphicFramePr/>
          <p:nvPr/>
        </p:nvGraphicFramePr>
        <p:xfrm>
          <a:off x="1981080" y="5676840"/>
          <a:ext cx="2441520" cy="64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9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676840"/>
                    <a:ext cx="2441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Oval 13"/>
          <p:cNvSpPr/>
          <p:nvPr/>
        </p:nvSpPr>
        <p:spPr>
          <a:xfrm>
            <a:off x="1371600" y="331488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447920" y="1905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6"/>
          <p:cNvSpPr/>
          <p:nvPr/>
        </p:nvSpPr>
        <p:spPr>
          <a:xfrm>
            <a:off x="1447920" y="4343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447920" y="3124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1447920" y="5562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1523880" y="228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is symmetric with respect to the orig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12"/>
          <p:cNvGraphicFramePr/>
          <p:nvPr/>
        </p:nvGraphicFramePr>
        <p:xfrm>
          <a:off x="2251080" y="1960560"/>
          <a:ext cx="190332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1080" y="1960560"/>
                    <a:ext cx="19033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3"/>
          <p:cNvGraphicFramePr/>
          <p:nvPr/>
        </p:nvGraphicFramePr>
        <p:xfrm>
          <a:off x="2251080" y="3141720"/>
          <a:ext cx="1076400" cy="61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1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51080" y="3141720"/>
                    <a:ext cx="1076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4"/>
          <p:cNvGraphicFramePr/>
          <p:nvPr/>
        </p:nvGraphicFramePr>
        <p:xfrm>
          <a:off x="2251080" y="4437000"/>
          <a:ext cx="190188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3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51080" y="4437000"/>
                    <a:ext cx="1901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5"/>
          <p:cNvGraphicFramePr/>
          <p:nvPr/>
        </p:nvGraphicFramePr>
        <p:xfrm>
          <a:off x="2251080" y="5580000"/>
          <a:ext cx="1652760" cy="61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5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51080" y="5580000"/>
                    <a:ext cx="16527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1447920" y="1905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4"/>
          <p:cNvSpPr/>
          <p:nvPr/>
        </p:nvSpPr>
        <p:spPr>
          <a:xfrm>
            <a:off x="1447920" y="4343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447920" y="3124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1447920" y="5562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1523880" y="228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is symmetric with respect to the orig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8"/>
          <p:cNvGraphicFramePr/>
          <p:nvPr/>
        </p:nvGraphicFramePr>
        <p:xfrm>
          <a:off x="2251080" y="1960560"/>
          <a:ext cx="190332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1080" y="1960560"/>
                    <a:ext cx="19033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9"/>
          <p:cNvGraphicFramePr/>
          <p:nvPr/>
        </p:nvGraphicFramePr>
        <p:xfrm>
          <a:off x="2251080" y="3141720"/>
          <a:ext cx="1076400" cy="61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51080" y="3141720"/>
                    <a:ext cx="1076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0"/>
          <p:cNvGraphicFramePr/>
          <p:nvPr/>
        </p:nvGraphicFramePr>
        <p:xfrm>
          <a:off x="2251080" y="4437000"/>
          <a:ext cx="190188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51080" y="4437000"/>
                    <a:ext cx="1901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1"/>
          <p:cNvGraphicFramePr/>
          <p:nvPr/>
        </p:nvGraphicFramePr>
        <p:xfrm>
          <a:off x="2251080" y="5580000"/>
          <a:ext cx="1652760" cy="61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51080" y="5580000"/>
                    <a:ext cx="16527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Oval 12"/>
          <p:cNvSpPr/>
          <p:nvPr/>
        </p:nvSpPr>
        <p:spPr>
          <a:xfrm>
            <a:off x="1422360" y="56386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1447920" y="20192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6"/>
          <p:cNvSpPr/>
          <p:nvPr/>
        </p:nvSpPr>
        <p:spPr>
          <a:xfrm>
            <a:off x="1447920" y="4457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1447920" y="3238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1447920" y="56768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1523880" y="1904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functions is ev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Object 11"/>
          <p:cNvGraphicFramePr/>
          <p:nvPr/>
        </p:nvGraphicFramePr>
        <p:xfrm>
          <a:off x="2144880" y="2075040"/>
          <a:ext cx="1795320" cy="61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4880" y="2075040"/>
                    <a:ext cx="17953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12"/>
          <p:cNvGraphicFramePr/>
          <p:nvPr/>
        </p:nvGraphicFramePr>
        <p:xfrm>
          <a:off x="2144880" y="3255840"/>
          <a:ext cx="1290600" cy="61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4880" y="3255840"/>
                    <a:ext cx="12906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13"/>
          <p:cNvGraphicFramePr/>
          <p:nvPr/>
        </p:nvGraphicFramePr>
        <p:xfrm>
          <a:off x="2144880" y="4605480"/>
          <a:ext cx="172224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4880" y="4605480"/>
                    <a:ext cx="17222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14"/>
          <p:cNvGraphicFramePr/>
          <p:nvPr/>
        </p:nvGraphicFramePr>
        <p:xfrm>
          <a:off x="2144880" y="5676840"/>
          <a:ext cx="12571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6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44880" y="5676840"/>
                    <a:ext cx="1257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1447920" y="20192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1447920" y="4457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447920" y="3238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447920" y="56768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523880" y="1904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functions is ev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8"/>
          <p:cNvGraphicFramePr/>
          <p:nvPr/>
        </p:nvGraphicFramePr>
        <p:xfrm>
          <a:off x="2144880" y="2075040"/>
          <a:ext cx="1795320" cy="61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4880" y="2075040"/>
                    <a:ext cx="17953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9"/>
          <p:cNvGraphicFramePr/>
          <p:nvPr/>
        </p:nvGraphicFramePr>
        <p:xfrm>
          <a:off x="2144880" y="3255840"/>
          <a:ext cx="1290600" cy="61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4880" y="3255840"/>
                    <a:ext cx="12906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10"/>
          <p:cNvGraphicFramePr/>
          <p:nvPr/>
        </p:nvGraphicFramePr>
        <p:xfrm>
          <a:off x="2144880" y="4605480"/>
          <a:ext cx="172224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9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4880" y="4605480"/>
                    <a:ext cx="17222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11"/>
          <p:cNvGraphicFramePr/>
          <p:nvPr/>
        </p:nvGraphicFramePr>
        <p:xfrm>
          <a:off x="2144880" y="5676840"/>
          <a:ext cx="12571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1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44880" y="5676840"/>
                    <a:ext cx="1257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Oval 12"/>
          <p:cNvSpPr/>
          <p:nvPr/>
        </p:nvSpPr>
        <p:spPr>
          <a:xfrm>
            <a:off x="1371600" y="2133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447920" y="2095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1447920" y="45338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1447920" y="3314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1447920" y="57531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1523880" y="19044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n equation for a function that has the shape of              but is shifted left 3 units and down 5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1"/>
          <p:cNvGraphicFramePr/>
          <p:nvPr/>
        </p:nvGraphicFramePr>
        <p:xfrm>
          <a:off x="2079720" y="2133720"/>
          <a:ext cx="28717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9720" y="2133720"/>
                    <a:ext cx="2871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2"/>
          <p:cNvGraphicFramePr/>
          <p:nvPr/>
        </p:nvGraphicFramePr>
        <p:xfrm>
          <a:off x="2079720" y="3314880"/>
          <a:ext cx="2868480" cy="64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3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9720" y="3314880"/>
                    <a:ext cx="286848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3"/>
          <p:cNvGraphicFramePr/>
          <p:nvPr/>
        </p:nvGraphicFramePr>
        <p:xfrm>
          <a:off x="2079720" y="4627440"/>
          <a:ext cx="2870280" cy="64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5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9720" y="4627440"/>
                    <a:ext cx="28702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14"/>
          <p:cNvGraphicFramePr/>
          <p:nvPr/>
        </p:nvGraphicFramePr>
        <p:xfrm>
          <a:off x="2079720" y="5753160"/>
          <a:ext cx="287316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7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9720" y="5753160"/>
                    <a:ext cx="28731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16"/>
          <p:cNvGraphicFramePr/>
          <p:nvPr/>
        </p:nvGraphicFramePr>
        <p:xfrm>
          <a:off x="3019320" y="622440"/>
          <a:ext cx="1363680" cy="64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9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19320" y="622440"/>
                    <a:ext cx="1363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1447920" y="2095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1447920" y="45338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1447920" y="3314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447920" y="57531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1523880" y="19044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n equation for a function that has the shape of              but is shifted left 3 units and down 5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8"/>
          <p:cNvGraphicFramePr/>
          <p:nvPr/>
        </p:nvGraphicFramePr>
        <p:xfrm>
          <a:off x="2079720" y="2133720"/>
          <a:ext cx="28717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9720" y="2133720"/>
                    <a:ext cx="2871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9"/>
          <p:cNvGraphicFramePr/>
          <p:nvPr/>
        </p:nvGraphicFramePr>
        <p:xfrm>
          <a:off x="2079720" y="3314880"/>
          <a:ext cx="2868480" cy="64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9720" y="3314880"/>
                    <a:ext cx="286848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10"/>
          <p:cNvGraphicFramePr/>
          <p:nvPr/>
        </p:nvGraphicFramePr>
        <p:xfrm>
          <a:off x="2079720" y="4627440"/>
          <a:ext cx="2870280" cy="64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2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9720" y="4627440"/>
                    <a:ext cx="28702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11"/>
          <p:cNvGraphicFramePr/>
          <p:nvPr/>
        </p:nvGraphicFramePr>
        <p:xfrm>
          <a:off x="2079720" y="5753160"/>
          <a:ext cx="287316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4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9720" y="5753160"/>
                    <a:ext cx="28731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12"/>
          <p:cNvGraphicFramePr/>
          <p:nvPr/>
        </p:nvGraphicFramePr>
        <p:xfrm>
          <a:off x="3019320" y="622440"/>
          <a:ext cx="1363680" cy="64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6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19320" y="622440"/>
                    <a:ext cx="1363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Oval 13"/>
          <p:cNvSpPr/>
          <p:nvPr/>
        </p:nvSpPr>
        <p:spPr>
          <a:xfrm>
            <a:off x="1371600" y="4648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6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371600" y="2412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 6) is a point on the graph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at point do you know is on the graph of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Object 11"/>
          <p:cNvGraphicFramePr/>
          <p:nvPr/>
        </p:nvGraphicFramePr>
        <p:xfrm>
          <a:off x="2057400" y="2193840"/>
          <a:ext cx="1149480" cy="5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2193840"/>
                    <a:ext cx="11494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12"/>
          <p:cNvGraphicFramePr/>
          <p:nvPr/>
        </p:nvGraphicFramePr>
        <p:xfrm>
          <a:off x="2057400" y="3375000"/>
          <a:ext cx="111132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8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3375000"/>
                    <a:ext cx="1111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13"/>
          <p:cNvGraphicFramePr/>
          <p:nvPr/>
        </p:nvGraphicFramePr>
        <p:xfrm>
          <a:off x="2057400" y="4687920"/>
          <a:ext cx="93204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0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4687920"/>
                    <a:ext cx="9320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14"/>
          <p:cNvGraphicFramePr/>
          <p:nvPr/>
        </p:nvGraphicFramePr>
        <p:xfrm>
          <a:off x="2057400" y="5813280"/>
          <a:ext cx="933480" cy="54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52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5813280"/>
                    <a:ext cx="9334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(0,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,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(1, 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523880" y="228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interval on which the function is increa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6172200" y="8380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1371600" y="2412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 6) is a point on the graph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at point do you know is on the graph of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8"/>
          <p:cNvGraphicFramePr/>
          <p:nvPr/>
        </p:nvGraphicFramePr>
        <p:xfrm>
          <a:off x="2057400" y="2193840"/>
          <a:ext cx="1149480" cy="5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2193840"/>
                    <a:ext cx="11494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9"/>
          <p:cNvGraphicFramePr/>
          <p:nvPr/>
        </p:nvGraphicFramePr>
        <p:xfrm>
          <a:off x="2057400" y="3375000"/>
          <a:ext cx="111132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3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3375000"/>
                    <a:ext cx="1111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10"/>
          <p:cNvGraphicFramePr/>
          <p:nvPr/>
        </p:nvGraphicFramePr>
        <p:xfrm>
          <a:off x="2057400" y="4687920"/>
          <a:ext cx="93204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5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4687920"/>
                    <a:ext cx="9320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11"/>
          <p:cNvGraphicFramePr/>
          <p:nvPr/>
        </p:nvGraphicFramePr>
        <p:xfrm>
          <a:off x="2057400" y="5813280"/>
          <a:ext cx="933480" cy="54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7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5813280"/>
                    <a:ext cx="9334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Oval 12"/>
          <p:cNvSpPr/>
          <p:nvPr/>
        </p:nvSpPr>
        <p:spPr>
          <a:xfrm>
            <a:off x="1371600" y="2254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45720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3808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4724280" y="2254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47242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1371600" y="763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given. Which graph below represents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4" descr="Picture 9"/>
          <p:cNvPicPr/>
          <p:nvPr/>
        </p:nvPicPr>
        <p:blipFill>
          <a:blip r:embed="rId2"/>
          <a:stretch/>
        </p:blipFill>
        <p:spPr>
          <a:xfrm>
            <a:off x="5791320" y="3049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5" descr="Picture 10"/>
          <p:cNvPicPr/>
          <p:nvPr/>
        </p:nvPicPr>
        <p:blipFill>
          <a:blip r:embed="rId3"/>
          <a:stretch/>
        </p:blipFill>
        <p:spPr>
          <a:xfrm>
            <a:off x="1219320" y="2514600"/>
            <a:ext cx="2717640" cy="18032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6" descr="Picture 11"/>
          <p:cNvPicPr/>
          <p:nvPr/>
        </p:nvPicPr>
        <p:blipFill>
          <a:blip r:embed="rId4"/>
          <a:stretch/>
        </p:blipFill>
        <p:spPr>
          <a:xfrm>
            <a:off x="5791320" y="2514600"/>
            <a:ext cx="2755800" cy="18414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7" descr="Picture 12"/>
          <p:cNvPicPr/>
          <p:nvPr/>
        </p:nvPicPr>
        <p:blipFill>
          <a:blip r:embed="rId5"/>
          <a:stretch/>
        </p:blipFill>
        <p:spPr>
          <a:xfrm>
            <a:off x="1219320" y="4648320"/>
            <a:ext cx="2806560" cy="18669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8" descr="Picture 13"/>
          <p:cNvPicPr/>
          <p:nvPr/>
        </p:nvPicPr>
        <p:blipFill>
          <a:blip r:embed="rId6"/>
          <a:stretch/>
        </p:blipFill>
        <p:spPr>
          <a:xfrm>
            <a:off x="5664240" y="4648320"/>
            <a:ext cx="2946240" cy="1765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45720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4"/>
          <p:cNvSpPr/>
          <p:nvPr/>
        </p:nvSpPr>
        <p:spPr>
          <a:xfrm>
            <a:off x="3808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4724280" y="2254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47242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1371600" y="763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given. Which graph below represents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8" descr="Picture 9"/>
          <p:cNvPicPr/>
          <p:nvPr/>
        </p:nvPicPr>
        <p:blipFill>
          <a:blip r:embed="rId2"/>
          <a:stretch/>
        </p:blipFill>
        <p:spPr>
          <a:xfrm>
            <a:off x="5791320" y="3049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Picture 10"/>
          <p:cNvPicPr/>
          <p:nvPr/>
        </p:nvPicPr>
        <p:blipFill>
          <a:blip r:embed="rId3"/>
          <a:stretch/>
        </p:blipFill>
        <p:spPr>
          <a:xfrm>
            <a:off x="1219320" y="2514600"/>
            <a:ext cx="2717640" cy="1803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Picture 11"/>
          <p:cNvPicPr/>
          <p:nvPr/>
        </p:nvPicPr>
        <p:blipFill>
          <a:blip r:embed="rId4"/>
          <a:stretch/>
        </p:blipFill>
        <p:spPr>
          <a:xfrm>
            <a:off x="5791320" y="2514600"/>
            <a:ext cx="2755800" cy="1841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Picture 12"/>
          <p:cNvPicPr/>
          <p:nvPr/>
        </p:nvPicPr>
        <p:blipFill>
          <a:blip r:embed="rId5"/>
          <a:stretch/>
        </p:blipFill>
        <p:spPr>
          <a:xfrm>
            <a:off x="1219320" y="4648320"/>
            <a:ext cx="2806560" cy="1866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cture 13"/>
          <p:cNvPicPr/>
          <p:nvPr/>
        </p:nvPicPr>
        <p:blipFill>
          <a:blip r:embed="rId6"/>
          <a:stretch/>
        </p:blipFill>
        <p:spPr>
          <a:xfrm>
            <a:off x="5664240" y="4648320"/>
            <a:ext cx="2946240" cy="1765080"/>
          </a:xfrm>
          <a:prstGeom prst="rect">
            <a:avLst/>
          </a:prstGeom>
          <a:ln w="0">
            <a:noFill/>
          </a:ln>
        </p:spPr>
      </p:pic>
      <p:sp>
        <p:nvSpPr>
          <p:cNvPr id="493" name="Oval 13"/>
          <p:cNvSpPr/>
          <p:nvPr/>
        </p:nvSpPr>
        <p:spPr>
          <a:xfrm>
            <a:off x="304920" y="45720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45720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4"/>
          <p:cNvSpPr/>
          <p:nvPr/>
        </p:nvSpPr>
        <p:spPr>
          <a:xfrm>
            <a:off x="3808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4724280" y="2254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47242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1219320" y="76320"/>
            <a:ext cx="419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given. Which graph below represents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4" descr="Picture 14"/>
          <p:cNvPicPr/>
          <p:nvPr/>
        </p:nvPicPr>
        <p:blipFill>
          <a:blip r:embed="rId2"/>
          <a:stretch/>
        </p:blipFill>
        <p:spPr>
          <a:xfrm>
            <a:off x="5486400" y="380880"/>
            <a:ext cx="3581280" cy="14986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5" descr="Picture 15"/>
          <p:cNvPicPr/>
          <p:nvPr/>
        </p:nvPicPr>
        <p:blipFill>
          <a:blip r:embed="rId3"/>
          <a:stretch/>
        </p:blipFill>
        <p:spPr>
          <a:xfrm>
            <a:off x="1015920" y="2286000"/>
            <a:ext cx="3479760" cy="2057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6" descr="Picture 16"/>
          <p:cNvPicPr/>
          <p:nvPr/>
        </p:nvPicPr>
        <p:blipFill>
          <a:blip r:embed="rId4"/>
          <a:stretch/>
        </p:blipFill>
        <p:spPr>
          <a:xfrm>
            <a:off x="5448240" y="2286000"/>
            <a:ext cx="3314880" cy="20700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7" descr="Picture 17"/>
          <p:cNvPicPr/>
          <p:nvPr/>
        </p:nvPicPr>
        <p:blipFill>
          <a:blip r:embed="rId5"/>
          <a:stretch/>
        </p:blipFill>
        <p:spPr>
          <a:xfrm>
            <a:off x="990720" y="4572000"/>
            <a:ext cx="3340080" cy="20574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8" descr="Picture 18"/>
          <p:cNvPicPr/>
          <p:nvPr/>
        </p:nvPicPr>
        <p:blipFill>
          <a:blip r:embed="rId6"/>
          <a:stretch/>
        </p:blipFill>
        <p:spPr>
          <a:xfrm>
            <a:off x="5460840" y="4495680"/>
            <a:ext cx="3403800" cy="2108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"/>
          <p:cNvSpPr/>
          <p:nvPr/>
        </p:nvSpPr>
        <p:spPr>
          <a:xfrm>
            <a:off x="45720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4"/>
          <p:cNvSpPr/>
          <p:nvPr/>
        </p:nvSpPr>
        <p:spPr>
          <a:xfrm>
            <a:off x="3808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724280" y="2254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47242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1219320" y="76320"/>
            <a:ext cx="419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given. Which graph below represents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Picture 14"/>
          <p:cNvPicPr/>
          <p:nvPr/>
        </p:nvPicPr>
        <p:blipFill>
          <a:blip r:embed="rId2"/>
          <a:stretch/>
        </p:blipFill>
        <p:spPr>
          <a:xfrm>
            <a:off x="5486400" y="380880"/>
            <a:ext cx="3581280" cy="1498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Picture 15"/>
          <p:cNvPicPr/>
          <p:nvPr/>
        </p:nvPicPr>
        <p:blipFill>
          <a:blip r:embed="rId3"/>
          <a:stretch/>
        </p:blipFill>
        <p:spPr>
          <a:xfrm>
            <a:off x="1015920" y="2286000"/>
            <a:ext cx="3479760" cy="20574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Picture 16"/>
          <p:cNvPicPr/>
          <p:nvPr/>
        </p:nvPicPr>
        <p:blipFill>
          <a:blip r:embed="rId4"/>
          <a:stretch/>
        </p:blipFill>
        <p:spPr>
          <a:xfrm>
            <a:off x="5448240" y="2286000"/>
            <a:ext cx="3314880" cy="2070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Picture 17"/>
          <p:cNvPicPr/>
          <p:nvPr/>
        </p:nvPicPr>
        <p:blipFill>
          <a:blip r:embed="rId5"/>
          <a:stretch/>
        </p:blipFill>
        <p:spPr>
          <a:xfrm>
            <a:off x="990720" y="4572000"/>
            <a:ext cx="3340080" cy="2057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Picture 18"/>
          <p:cNvPicPr/>
          <p:nvPr/>
        </p:nvPicPr>
        <p:blipFill>
          <a:blip r:embed="rId6"/>
          <a:stretch/>
        </p:blipFill>
        <p:spPr>
          <a:xfrm>
            <a:off x="5460840" y="4495680"/>
            <a:ext cx="3403800" cy="2108160"/>
          </a:xfrm>
          <a:prstGeom prst="rect">
            <a:avLst/>
          </a:prstGeom>
          <a:ln w="0">
            <a:noFill/>
          </a:ln>
        </p:spPr>
      </p:pic>
      <p:sp>
        <p:nvSpPr>
          <p:cNvPr id="518" name="Oval 13"/>
          <p:cNvSpPr/>
          <p:nvPr/>
        </p:nvSpPr>
        <p:spPr>
          <a:xfrm>
            <a:off x="4686480" y="454644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1447920" y="2095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6"/>
          <p:cNvSpPr/>
          <p:nvPr/>
        </p:nvSpPr>
        <p:spPr>
          <a:xfrm>
            <a:off x="1447920" y="45338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1447920" y="3314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1447920" y="57531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1523880" y="2350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symmetric with respect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Object 11"/>
          <p:cNvGraphicFramePr/>
          <p:nvPr/>
        </p:nvGraphicFramePr>
        <p:xfrm>
          <a:off x="1959120" y="2152800"/>
          <a:ext cx="2155680" cy="61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9120" y="2152800"/>
                    <a:ext cx="215568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12"/>
          <p:cNvGraphicFramePr/>
          <p:nvPr/>
        </p:nvGraphicFramePr>
        <p:xfrm>
          <a:off x="1959120" y="3406680"/>
          <a:ext cx="14698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9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9120" y="3406680"/>
                    <a:ext cx="1469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13"/>
          <p:cNvGraphicFramePr/>
          <p:nvPr/>
        </p:nvGraphicFramePr>
        <p:xfrm>
          <a:off x="1959120" y="4645080"/>
          <a:ext cx="1792080" cy="61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59120" y="4645080"/>
                    <a:ext cx="1792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14"/>
          <p:cNvGraphicFramePr/>
          <p:nvPr/>
        </p:nvGraphicFramePr>
        <p:xfrm>
          <a:off x="1959120" y="5753160"/>
          <a:ext cx="17953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3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59120" y="5753160"/>
                    <a:ext cx="1795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447920" y="2095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4"/>
          <p:cNvSpPr/>
          <p:nvPr/>
        </p:nvSpPr>
        <p:spPr>
          <a:xfrm>
            <a:off x="1447920" y="45338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1447920" y="3314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1447920" y="57531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1523880" y="2350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symmetric with respect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Object 8"/>
          <p:cNvGraphicFramePr/>
          <p:nvPr/>
        </p:nvGraphicFramePr>
        <p:xfrm>
          <a:off x="1959120" y="2152800"/>
          <a:ext cx="2155680" cy="61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9120" y="2152800"/>
                    <a:ext cx="215568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9"/>
          <p:cNvGraphicFramePr/>
          <p:nvPr/>
        </p:nvGraphicFramePr>
        <p:xfrm>
          <a:off x="1959120" y="3406680"/>
          <a:ext cx="14698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4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9120" y="3406680"/>
                    <a:ext cx="1469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10"/>
          <p:cNvGraphicFramePr/>
          <p:nvPr/>
        </p:nvGraphicFramePr>
        <p:xfrm>
          <a:off x="1959120" y="4645080"/>
          <a:ext cx="1792080" cy="61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6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59120" y="4645080"/>
                    <a:ext cx="1792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Object 11"/>
          <p:cNvGraphicFramePr/>
          <p:nvPr/>
        </p:nvGraphicFramePr>
        <p:xfrm>
          <a:off x="1959120" y="5753160"/>
          <a:ext cx="17953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8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59120" y="5753160"/>
                    <a:ext cx="1795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Oval 12"/>
          <p:cNvSpPr/>
          <p:nvPr/>
        </p:nvSpPr>
        <p:spPr>
          <a:xfrm>
            <a:off x="1371600" y="22478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447920" y="1928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1447920" y="4367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1447920" y="31478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1447920" y="5586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1523880" y="100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2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0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Object 11"/>
          <p:cNvGraphicFramePr/>
          <p:nvPr/>
        </p:nvGraphicFramePr>
        <p:xfrm>
          <a:off x="2057400" y="5357880"/>
          <a:ext cx="57456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357880"/>
                    <a:ext cx="5745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"/>
          <p:cNvSpPr/>
          <p:nvPr/>
        </p:nvSpPr>
        <p:spPr>
          <a:xfrm>
            <a:off x="1447920" y="1928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4"/>
          <p:cNvSpPr/>
          <p:nvPr/>
        </p:nvSpPr>
        <p:spPr>
          <a:xfrm>
            <a:off x="1447920" y="4367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447920" y="31478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447920" y="5586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1523880" y="100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2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0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Object 8"/>
          <p:cNvGraphicFramePr/>
          <p:nvPr/>
        </p:nvGraphicFramePr>
        <p:xfrm>
          <a:off x="2057400" y="5357880"/>
          <a:ext cx="57456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357880"/>
                    <a:ext cx="5745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Oval 9"/>
          <p:cNvSpPr/>
          <p:nvPr/>
        </p:nvSpPr>
        <p:spPr>
          <a:xfrm>
            <a:off x="1409760" y="3200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1447920" y="27813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33.6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6"/>
          <p:cNvSpPr/>
          <p:nvPr/>
        </p:nvSpPr>
        <p:spPr>
          <a:xfrm>
            <a:off x="1447920" y="4768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32.0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1447920" y="3772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56.8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72.3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1523880" y="12060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olume of a 6-in. tall cone varies directly as the square of the radius. The volume is 14.2 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the radius is 1.5 in. Find the volume when the radius is 3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(0,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,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(1, 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523880" y="228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interval on which the function is increa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6172200" y="83808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115" name="Oval 10"/>
          <p:cNvSpPr/>
          <p:nvPr/>
        </p:nvSpPr>
        <p:spPr>
          <a:xfrm>
            <a:off x="1371600" y="2330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1447920" y="27813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33.6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1447920" y="4768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32.0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447920" y="3772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56.8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72.3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523880" y="12060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olume of a 6-in. tall cone varies directly as the square of the radius. The volume is 14.2 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the radius is 1.5 in. Find the volume when the radius is 3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1371600" y="38480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1447920" y="2514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6"/>
          <p:cNvSpPr/>
          <p:nvPr/>
        </p:nvSpPr>
        <p:spPr>
          <a:xfrm>
            <a:off x="1447920" y="4708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447920" y="3581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447920" y="5732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1523880" y="169920"/>
            <a:ext cx="6934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d an equation of variation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aries jointly as the square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the square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inversely a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50 w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2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3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Object 11"/>
          <p:cNvGraphicFramePr/>
          <p:nvPr/>
        </p:nvGraphicFramePr>
        <p:xfrm>
          <a:off x="2057400" y="5504040"/>
          <a:ext cx="1727280" cy="89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504040"/>
                    <a:ext cx="172728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Object 13"/>
          <p:cNvGraphicFramePr/>
          <p:nvPr/>
        </p:nvGraphicFramePr>
        <p:xfrm>
          <a:off x="2057400" y="4556160"/>
          <a:ext cx="1577880" cy="89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4556160"/>
                    <a:ext cx="157788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14"/>
          <p:cNvGraphicFramePr/>
          <p:nvPr/>
        </p:nvGraphicFramePr>
        <p:xfrm>
          <a:off x="2057400" y="3519360"/>
          <a:ext cx="140004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6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519360"/>
                    <a:ext cx="14000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15"/>
          <p:cNvGraphicFramePr/>
          <p:nvPr/>
        </p:nvGraphicFramePr>
        <p:xfrm>
          <a:off x="2057400" y="2438280"/>
          <a:ext cx="1428840" cy="89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8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438280"/>
                    <a:ext cx="1428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447920" y="2514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4"/>
          <p:cNvSpPr/>
          <p:nvPr/>
        </p:nvSpPr>
        <p:spPr>
          <a:xfrm>
            <a:off x="1447920" y="4708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1447920" y="3581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1447920" y="5732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1523880" y="169920"/>
            <a:ext cx="6934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d an equation of variation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aries jointly as the square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the square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inversely a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50 w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2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3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Object 8"/>
          <p:cNvGraphicFramePr/>
          <p:nvPr/>
        </p:nvGraphicFramePr>
        <p:xfrm>
          <a:off x="2057400" y="5504040"/>
          <a:ext cx="1727280" cy="89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504040"/>
                    <a:ext cx="172728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9"/>
          <p:cNvGraphicFramePr/>
          <p:nvPr/>
        </p:nvGraphicFramePr>
        <p:xfrm>
          <a:off x="2057400" y="4556160"/>
          <a:ext cx="1577880" cy="89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4556160"/>
                    <a:ext cx="157788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Object 10"/>
          <p:cNvGraphicFramePr/>
          <p:nvPr/>
        </p:nvGraphicFramePr>
        <p:xfrm>
          <a:off x="2057400" y="3519360"/>
          <a:ext cx="140004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1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519360"/>
                    <a:ext cx="14000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11"/>
          <p:cNvGraphicFramePr/>
          <p:nvPr/>
        </p:nvGraphicFramePr>
        <p:xfrm>
          <a:off x="2057400" y="2438280"/>
          <a:ext cx="1428840" cy="89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1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438280"/>
                    <a:ext cx="1428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Oval 12"/>
          <p:cNvSpPr/>
          <p:nvPr/>
        </p:nvSpPr>
        <p:spPr>
          <a:xfrm>
            <a:off x="1409760" y="58086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0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6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5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.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523880" y="120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.2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0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0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4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5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.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1523880" y="120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.2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0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8"/>
          <p:cNvSpPr/>
          <p:nvPr/>
        </p:nvSpPr>
        <p:spPr>
          <a:xfrm>
            <a:off x="1409760" y="59119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0.25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6"/>
          <p:cNvSpPr/>
          <p:nvPr/>
        </p:nvSpPr>
        <p:spPr>
          <a:xfrm>
            <a:off x="1447920" y="5029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0.16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1447920" y="4159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.25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1447920" y="5911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.08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1523880" y="1969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urr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 electrical conductor varies inversely as the resi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conductor. 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0.2 amperes when the resistance is 200 ohms. Find the current when the resistance is 250 oh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0.25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4"/>
          <p:cNvSpPr/>
          <p:nvPr/>
        </p:nvSpPr>
        <p:spPr>
          <a:xfrm>
            <a:off x="1447920" y="5029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0.16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1447920" y="4159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.25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447920" y="5911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.08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1523880" y="1969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urr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 electrical conductor varies inversely as the resi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conductor. 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0.2 amperes when the resistance is 200 ohms. Find the current when the resistance is 250 oh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1371600" y="51055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2120" y="27874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rel max 0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; rel min 4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–32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762120" y="4768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rel max 32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; rel min 0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762120" y="3778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rel max 0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; rel min –32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62120" y="5759280"/>
            <a:ext cx="80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There are no relative extrem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523880" y="13824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graphing calculator to find any relative maxima or minima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15"/>
          <p:cNvGraphicFramePr/>
          <p:nvPr/>
        </p:nvGraphicFramePr>
        <p:xfrm>
          <a:off x="3505320" y="1295280"/>
          <a:ext cx="274320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295280"/>
                    <a:ext cx="2743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2120" y="27874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rel max 0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; rel min 4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–32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62120" y="4768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rel max 32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; rel min 0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62120" y="3778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rel max 0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; rel min –32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762120" y="5759280"/>
            <a:ext cx="80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There are no relative extrem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523880" y="13824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graphing calculator to find any relative maxima or minima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9"/>
          <p:cNvGraphicFramePr/>
          <p:nvPr/>
        </p:nvGraphicFramePr>
        <p:xfrm>
          <a:off x="3505320" y="1295280"/>
          <a:ext cx="274320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295280"/>
                    <a:ext cx="2743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Oval 10"/>
          <p:cNvSpPr/>
          <p:nvPr/>
        </p:nvSpPr>
        <p:spPr>
          <a:xfrm>
            <a:off x="609480" y="3809880"/>
            <a:ext cx="67968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2330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685800" y="4495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580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85800" y="5638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066680" y="990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–1)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9"/>
          <p:cNvGraphicFramePr/>
          <p:nvPr/>
        </p:nvGraphicFramePr>
        <p:xfrm>
          <a:off x="3579840" y="291960"/>
          <a:ext cx="5234040" cy="20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9840" y="291960"/>
                    <a:ext cx="523404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2330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5800" y="4495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8580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5800" y="5638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066680" y="990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–1)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9"/>
          <p:cNvGraphicFramePr/>
          <p:nvPr/>
        </p:nvGraphicFramePr>
        <p:xfrm>
          <a:off x="3579840" y="291960"/>
          <a:ext cx="5234040" cy="20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9840" y="291960"/>
                    <a:ext cx="523404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Oval 10"/>
          <p:cNvSpPr/>
          <p:nvPr/>
        </p:nvSpPr>
        <p:spPr>
          <a:xfrm>
            <a:off x="609480" y="4572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2330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685800" y="4495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8580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85800" y="5638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066680" y="990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11"/>
          <p:cNvGraphicFramePr/>
          <p:nvPr/>
        </p:nvGraphicFramePr>
        <p:xfrm>
          <a:off x="1219320" y="3505320"/>
          <a:ext cx="54612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505320"/>
                    <a:ext cx="546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9"/>
          <p:cNvGraphicFramePr/>
          <p:nvPr/>
        </p:nvGraphicFramePr>
        <p:xfrm>
          <a:off x="3579840" y="291960"/>
          <a:ext cx="5234040" cy="200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9840" y="291960"/>
                    <a:ext cx="523404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BeasoA</cp:lastModifiedBy>
  <dcterms:modified xsi:type="dcterms:W3CDTF">2015-02-06T01:48:57Z</dcterms:modified>
  <cp:revision>235</cp:revision>
  <dc:subject/>
  <dc:title>No Slide Title</dc:title>
</cp:coreProperties>
</file>